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372BE-8EA2-4502-B264-90BD81A85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5CD08-0761-4AEB-A06A-A9AA6EAA8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C0634-9691-41E0-95DE-4B5B97E63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6EF55-CD9A-4162-952F-04357B19C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89974-B3D8-47FA-A4B2-C0686FAD0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423C4-67A3-4C61-AED0-BBD960237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D238B-CC74-49FF-AB64-0C392E065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DC6DE-B8FD-475A-AA5D-8E0539129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FB249-BDA0-4D88-BBBE-2134BB8CC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BB3A3-9849-4C55-B031-EB9132C50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D72B4-377B-4254-B778-DCBC02D73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9D3CA-2104-4B65-9EF9-6A1B624DD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11F34-2842-4795-BE4D-F1E648962FE4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44964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10656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34920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Vertic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Horizont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uble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965680 w 7197480"/>
              <a:gd name="textAreaRight" fmla="*/ 4231800 w 7197480"/>
              <a:gd name="textAreaTop" fmla="*/ 1482840 h 3598560"/>
              <a:gd name="textAreaBottom" fmla="*/ 21157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5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8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16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2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32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148920 h 35985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21:57Z</dcterms:created>
  <dc:creator>tb121644</dc:creator>
  <dc:description/>
  <dc:language>en-US</dc:language>
  <cp:lastModifiedBy>tb121644</cp:lastModifiedBy>
  <dcterms:modified xsi:type="dcterms:W3CDTF">2005-05-25T11:22:14Z</dcterms:modified>
  <cp:revision>1</cp:revision>
  <dc:subject/>
  <dc:title>Slide 1</dc:title>
</cp:coreProperties>
</file>