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7244896"/>
        <c:axId val="19380608"/>
      </c:barChart>
      <c:catAx>
        <c:axId val="5724489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380608"/>
        <c:crosses val="autoZero"/>
        <c:auto val="1"/>
        <c:lblAlgn val="ctr"/>
        <c:lblOffset val="100"/>
        <c:noMultiLvlLbl val="0"/>
      </c:catAx>
      <c:valAx>
        <c:axId val="1938060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24489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A71AF-4C54-4401-924A-B73AEF5B6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BFE69-CFC3-4C7C-B981-2D7599AC4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B0FF9-BFD2-491C-A13E-9FC7CD8C7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07788-CB05-4389-8537-262EBC5EC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A7713-E26C-4BF4-B152-F6D4FB149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A7505-FB11-42BA-B470-33B7752CB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48306-0C4E-48B1-B781-09C4B2BBE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72B59-50B0-432C-B9F3-DF97DA5F5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EDD59-78B0-44B4-A2BE-56795115B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BD14F-EB43-4383-81DB-2791D6195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99DE0-BEA9-432B-BABE-782AF3A98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9C3D9-6E9B-4D5B-9C9F-BDB5A4721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443DD1-2D8C-49F5-9253-FF31782C510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