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96472"/>
        <c:axId val="16770146"/>
      </c:barChart>
      <c:catAx>
        <c:axId val="10496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70146"/>
        <c:crosses val="autoZero"/>
        <c:auto val="1"/>
        <c:lblAlgn val="ctr"/>
        <c:lblOffset val="100"/>
        <c:noMultiLvlLbl val="0"/>
      </c:catAx>
      <c:valAx>
        <c:axId val="16770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96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4E4-3D7A-4F10-AB61-AC4D4BE3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2D1-6319-4307-B778-9EB1CD34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0CA-75A5-4392-9263-6CD3929A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A96-4742-426E-951A-49DF47CA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A02-62C8-43B4-BDA7-A6EAFBC9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3CB-70B0-4E64-BFDF-4A59FB57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625-97E8-45C9-BABC-E08EF3BE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792-F1D0-4E31-AC0C-B897914B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07D-745B-480B-9995-575960BE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F24-3ADC-4826-9CCD-AF0825ED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8BA-41F3-46EA-A705-4E23564C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6B5-6F92-41FC-991B-CDB126C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9CBB5-85CD-431A-B537-5B8790BA1F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