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50129"/>
        <c:axId val="79809708"/>
      </c:barChart>
      <c:catAx>
        <c:axId val="285501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09708"/>
        <c:crosses val="autoZero"/>
        <c:auto val="1"/>
        <c:lblAlgn val="ctr"/>
        <c:lblOffset val="100"/>
        <c:noMultiLvlLbl val="0"/>
      </c:catAx>
      <c:valAx>
        <c:axId val="79809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501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42E-0085-4B57-9860-CCB42EC3F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1E4-729F-4FE4-84D4-DB2CDA5B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2D7-2FC1-4963-8755-7E625C23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B44-264E-4A42-98B3-0107803F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F04-947B-408A-9D9B-55737653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E40-8EF7-4841-B85A-47AA9204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7144-05E1-48AD-90AB-8BF5F50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6F68-1E92-43EC-AFB4-6B1DA3DB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A37-A6F6-4875-B0D2-AE4ED743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100-80E0-4D2C-8153-2E7F61BE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064-DB10-43F7-991A-FCE81C32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C9C-0F09-4E3F-B5B4-2E5AB739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BF9F5-DDBA-4234-81EC-F73264C9A1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