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35843"/>
        <c:axId val="91374107"/>
      </c:barChart>
      <c:catAx>
        <c:axId val="16435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74107"/>
        <c:crosses val="autoZero"/>
        <c:auto val="1"/>
        <c:lblAlgn val="ctr"/>
        <c:lblOffset val="100"/>
        <c:noMultiLvlLbl val="0"/>
      </c:catAx>
      <c:valAx>
        <c:axId val="91374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35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64E-BA0F-4337-A209-E2D109A9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D24-8FEB-48B1-B13F-459D7512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007-E66C-4D23-ABDA-B6ECC5D3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30D-283E-4AF4-B24F-036909B9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B66-F6FD-449A-8611-B9E407EF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981-E3FB-4370-AB9A-28767233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A02-928A-48E2-9F1D-F069FECE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C37-A3A8-4CF3-8B9F-2CA92956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363-E89A-41D7-BDD7-EB8AF4A7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3F4-75E4-43B0-BC5E-C1154E3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C01-962B-4EF6-80CC-0FE8EA23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D96-3056-4A90-94B8-3E129B1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21908-4385-484C-A76E-C7014A1FA7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