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5304"/>
        <c:axId val="778954"/>
      </c:barChart>
      <c:catAx>
        <c:axId val="56155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954"/>
        <c:crosses val="autoZero"/>
        <c:auto val="1"/>
        <c:lblAlgn val="ctr"/>
        <c:lblOffset val="100"/>
        <c:noMultiLvlLbl val="0"/>
      </c:catAx>
      <c:valAx>
        <c:axId val="778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5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DE3-3695-4C7F-94B9-426422CD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6DE-4E84-4F1C-9792-1F068A34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035-F279-4CF8-AEEE-3EFD6E7E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7BF-E4FF-4C91-8C63-0757BC12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B11-5528-4C27-9123-1803969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3CC-EB09-46F6-8BA6-85B2943D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FAE-CECF-415E-AE39-70FA9CA1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980-BB0B-4405-8914-EE3FB10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4F5-70A9-41DB-AD98-857DA3E2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A8E-D7B2-4312-AB72-4D25B7B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CC6-D35C-45F7-9CEF-4C6B884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F93-2D72-4B64-88BE-69742E8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F14E7-1389-4CEF-966D-192E2890D8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