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66788"/>
        <c:axId val="4025807"/>
      </c:barChart>
      <c:catAx>
        <c:axId val="88866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5807"/>
        <c:crosses val="autoZero"/>
        <c:auto val="1"/>
        <c:lblAlgn val="ctr"/>
        <c:lblOffset val="100"/>
        <c:noMultiLvlLbl val="0"/>
      </c:catAx>
      <c:valAx>
        <c:axId val="4025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66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658-1B2E-4FDB-A05F-4881277C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690-B1C1-48DE-8724-C983C0B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E6F-147F-4A17-95B6-26E26A0E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5F3-71DC-4A9D-85C7-EE024488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074-9AED-4BBA-A2B8-789B6DB9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86D-F52D-4182-8B37-648F87E1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551-D6F8-49D0-9E0D-229A204A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996-F2E9-4401-93DC-44731941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476-0CE3-49E9-B85B-10BD9E9D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E6B-F2FD-4C0D-B682-2314CD3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6A1-4F62-4230-89C8-5BDFA5CD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0A1-2065-45BC-A958-F9EA5306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697AB-34F2-4EFC-8D93-DC7C8FF6EE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