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49986"/>
        <c:axId val="44087830"/>
      </c:barChart>
      <c:catAx>
        <c:axId val="28949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87830"/>
        <c:crosses val="autoZero"/>
        <c:auto val="1"/>
        <c:lblAlgn val="ctr"/>
        <c:lblOffset val="100"/>
        <c:noMultiLvlLbl val="0"/>
      </c:catAx>
      <c:valAx>
        <c:axId val="44087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9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421-E5A5-4E54-912C-6A84EF7E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40D-29A0-4084-B150-1677CB07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390-8662-4221-97CD-3BAF289E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81D-95C2-4719-A52E-5EB88E26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0AA-7878-44AC-B1FB-76626E52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8DF-74EE-4080-9112-CF36EFA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1B9-36E9-4C88-8B15-41AC29F6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290-2C3D-442C-BAB0-794EF615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7D0-8119-46E0-9903-C80BD87F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273-BD0A-4249-9207-9CC5F54B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17E-36E5-4BD0-94C1-EBF793F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4AC-C558-497E-909B-FB073DF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E6E06-9BA1-48E2-B3C9-967802443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