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E30023F-A41B-429B-898C-67AE3DE953FA}"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E92E909-DAA9-4D37-9FB9-3D6B953B14A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66A8810-8D97-4B58-87D9-A6F81DAEAA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27EDDD-50B0-4503-94C1-6418A8D2B2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FF0DB90-186D-4EAF-B0C7-6E89EDA057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6A98DAD-78BA-4120-8258-DA70459636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5DBCFFC-C88E-49BA-B14E-F91AC35F97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F68E515-E63B-44EA-BF0A-C3894DB858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B7B01C0-003F-41F2-9FF9-91F1FD8926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53FBA67-19B6-4E6D-B38C-31DF09BD0E3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C7001F7-1FB5-4E93-BF01-C3BC91251A3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C7C17AE-F2A6-4E32-A886-9FF180431A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3BB4066-6D96-4FEB-8289-CDCF432720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721C76-0BFF-4C7D-BE89-27B5DE0DD8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9051474-FA5E-4F23-B4B4-D8B6F8C33E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9D861CA-7859-41A3-988B-46F064A18E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424D00C-AF7E-4A8C-87C9-07E10D9E80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D4D3A60-9E18-4190-A255-FCBD463626C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433654C-F2D6-48D6-91B9-FD4006E560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5F1770-47CE-46C1-B350-C4B8F5A965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F6BD14-35B0-4963-812B-24528FC7EA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72799B-3C3D-4E64-BF08-F4823B04B9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101DA2-8575-40F5-85E4-5B1DBD8851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210F40-77D0-4080-A44C-AFE2196120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C6FC43-BD2E-4440-B460-3005C3ECF5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6E8F23-B508-446C-A6B7-3EBE99C5A4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E6F28-A3AC-45BF-9716-AF51963A8E32}"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EA48B-4157-4BA2-B2BE-F7A3A4E592B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DF55A8-45E1-4CCE-93C4-DBF821548512}"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CAB1FE4-BBD7-4216-932D-8A117EEECF95}"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E8C3AEF-BC03-4C45-80B0-8470D3E51215}"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75B8DB0-F804-4EC3-990D-FB4071FCCBB4}"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D78452-CDBE-45C0-8750-BEE7E65072D1}"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ED43AC-DD67-42B9-AD03-0FD6B7F602FC}"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2174D0-11B2-4E9D-8246-DB7D320AD42A}"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A53E748-087B-4D9F-A516-E45FAFF7225C}"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03DF5D-5BE2-4866-9434-61852AE11EC8}"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CF7C0A-BFA1-44AC-A02D-93AD1F458BB4}"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DB924A6-1BCB-432D-BA75-ECB579D44C36}"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7E15DB-F665-45A7-BC7E-B1ED29C0DAD4}"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08BE463-DBDB-4C9D-B431-1317AA6E9040}"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32E360-2D4D-4C6D-8A97-DDB17EC0C447}"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FF06252-60A2-474C-829E-73A40F874D9C}"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DC99B78-AB0D-4DEC-8212-81C6FE9F19D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5F583F0-CEBB-4F8D-B65E-69467D167882}"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3FF115-1207-4A62-B7B6-46B81132C6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D39A1638-A968-428F-BA3C-309C556CAADD}"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71652E4-2A54-494E-99C9-F513EF80328A}"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9C1D44-A39F-4720-8654-2A7AE53AC3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D00492-F585-425D-800F-D340F47471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2516F67-AEB4-452D-BFD1-0C17DE1E94C8}"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72452FA-AC22-4491-93AC-3A91EFD35B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97AB017-F4DF-447F-99F3-D760D6AA2C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37AB897-D574-47F9-A717-6F54E55A93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F6C683E-0429-4A5E-BD3B-FF663B2857D8}"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1111CA1-F126-455E-B75B-13D4E3984F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BA6E1C-E555-4D3A-908C-DBD4B658DA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BF48D4A-BB7E-429B-B520-D22A8CAC37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EC5C614-786D-4C7F-B08C-C2FC5A4B0708}"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B9EA4A-142B-4527-9B62-A432910E999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D5855C-7E6A-4D82-AA86-9022F3FD98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A87DF0-0C0C-4BC7-A5D3-8E32206354DC}"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7169FC4-0DFE-4BA4-B858-4225FC003B4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DD8458A-A2C2-4712-892C-789DCCD70D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0EDC1FD-49CB-4C58-ACE2-A81EE85F67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BE1904D-F21E-46BD-AC3B-DD9805E261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533226-CC8E-4AE4-AD00-28C1F17072C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F221C7A-8F68-41BA-B54F-5001D0EC5C0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D7790DD-65C7-425C-B8A0-4F5407D9E3A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BF1F60-7EE8-48E1-93C4-B1E5C6767D1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2A54E80-7082-4DF6-A262-B765EA0D229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722E2F-5158-4E05-AB2B-1381BFED6EC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A5167C3-3D33-4F46-9FF0-AE4ED149E96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C053E8D-0B84-42CA-BF59-CDD5555C643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578ABC-E1F6-4114-9B77-46988AD5301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E4069B-BDDA-410C-8F0E-C5A7DFAA613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43FBA66-BD02-464B-802D-6B7A218B4B0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AE228C-0631-4766-BD5B-5E2C9BFDFDD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A5783D8-43E5-4575-A938-341F91B7FA0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B1B3ED-667A-4B21-A636-02483FDE81A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A07EAC6-9762-4AA1-82AE-7B7891A3348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F2D5A2-3470-4542-9A28-5A5131AD80E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BC58556-670C-40FB-B47B-7B863618CC92}"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5FEF69-47A1-4017-8C81-6D44B89F467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6FA8D7A-E377-453C-A5E9-0BC30E8DF89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496515-1488-4EEE-AFD1-5152E7EEFAA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2F8DC10-CCEB-4583-A2CA-311A8C525EC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A52292-608C-41AC-A738-4B647D3ABEB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841B982-D251-4601-9BD5-075EA254AAEF}"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4D73178-CBED-43BC-9B45-8F60472D4841}"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0DFB47-1AA0-4F03-905B-5069856A5BBB}"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B97DB1D-0FDF-47C0-97CA-14CED7AF9A88}"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CB61D7F-4239-47CD-8E7F-76DC3E7F9692}"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C66A200-A035-4A2D-B193-C620D216F60A}"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856270-1DE3-4C8B-A4DF-1E7841E74216}"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F402802-7F60-4918-965E-0F15C5360B7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0CF33E-CD1A-432C-8A80-FF5C91B7DB3B}"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8B827C9-60F3-439E-8873-534C07EABBFF}"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2651C8-96C7-4C00-A137-772F940EE9B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7FCC280-D94D-48CF-B2D0-BC9E408FA74F}"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47FE274-FEAD-4BD5-905D-FAA1FDD31BFC}"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1C8132-271C-4091-BA06-38517CEFB31E}"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6A39ED-451B-4B08-B47B-850EAB9424A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E153A3-4470-4A50-B646-F2713F1698D8}"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E903C5-0BAA-42C4-BAE4-A6D4D690264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D25E584-BE09-41EC-ADF8-19BF7049C52F}"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40FEFF-A958-4EC1-8402-96ABF63C55AD}"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EBD62F-97A3-420A-BCED-66D1F1790481}"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52A791A-8E69-45B0-A3FC-5BBA915B7CA9}"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E58E561-F8B9-4587-A426-C350CE750FCB}"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3C226A-0A7D-4082-8198-FC7D0161A7B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EFDF2BE-7016-417E-B183-97E0CE95BD8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1331C5-5D2A-45DB-BBB4-5F4EE8CA8ACD}"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627B790-6B85-434F-A622-2B9B82F214CE}"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4E69A1C-F4D9-4CBB-9707-0D1C0CA410F4}"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817973C-D229-40D7-8EB8-BE9B26649F38}"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6E2BAEE-B446-4020-BCC1-1B39B5130D92}"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BE9D41B-B964-4FC6-8BC7-39044E389FD0}"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4BAF64-B7AD-4354-A486-7F8F0D6B809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C201E9-F1A1-4047-B5AC-CDEA3DA8642F}"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E25453-8DEA-4C5B-95CC-1656A4DC1E61}"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6C8526-6EA4-4A60-8214-03A5B94E0701}"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06F80320-283C-4A94-A0D0-57134F8749E9}"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0174DED-612C-4CF9-8C6B-FB3F662032F6}"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03A4FC-7B50-4835-B143-EF313B2B33A3}"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6AD5D7-BCA6-4326-AE23-8331E999BD09}"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C4E3FE-1D00-4FE9-A086-44AE402607CE}"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22E02F6-6FC3-4EEA-8B7B-54D972190031}"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575B51-D209-44C9-AB10-AAA690F7D79C}"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7E8E7AE-EFEB-4E19-BB20-7BAAF8388358}"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651327-31D7-4D3A-B93B-0C2B33DF0204}"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B55C25C-A472-48A2-BF35-8FBAC42AA6E3}"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B73CE0-BFCE-4354-A331-BAF28C29693F}"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20E3C0-B412-42D6-83EE-CC88DB938686}"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C6F5A461-EC9A-46ED-AFB2-620E91BB4DB8}"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3213DA7-57DE-45CE-9B3A-65C5791AB96B}"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1E91B3-3A8B-49A2-A140-0D9B31C5BC84}"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4D95D92-60C3-4869-A744-4522BC0802FB}"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7AD6941-1249-4017-B6BA-B72E4AB33793}"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4D2F4E8-006B-45DA-9E15-DDAAE288F02D}"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