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23398"/>
        <c:axId val="25315001"/>
      </c:barChart>
      <c:catAx>
        <c:axId val="27823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15001"/>
        <c:crosses val="autoZero"/>
        <c:auto val="1"/>
        <c:lblAlgn val="ctr"/>
        <c:lblOffset val="100"/>
        <c:noMultiLvlLbl val="0"/>
      </c:catAx>
      <c:valAx>
        <c:axId val="25315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23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8CB-EB5A-408F-ABF5-A9432DD8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6B2-3546-458A-BB68-43145D07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019-9681-4F70-8A23-79125F2F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9FC-9EF2-4D94-8580-90F20B3D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876-0A43-4233-8845-BC656D2D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474-C0B8-473E-BFB0-D37463C4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69E-D33D-43DE-8022-825C85E7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B13-4156-4E9A-AAB4-DDEA98F1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195-6036-43E6-A6EE-9F522C97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9A5-0896-45D6-A5C8-EF567946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A82-7C0B-4CFA-85F8-0B73DD16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768-6F81-456A-B7B5-CF1159D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03BA5-C730-491A-9C3A-6C9E60680C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