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45530"/>
        <c:axId val="11411898"/>
      </c:barChart>
      <c:catAx>
        <c:axId val="11245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11898"/>
        <c:crosses val="autoZero"/>
        <c:auto val="1"/>
        <c:lblAlgn val="ctr"/>
        <c:lblOffset val="100"/>
        <c:noMultiLvlLbl val="0"/>
      </c:catAx>
      <c:valAx>
        <c:axId val="11411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5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32F-185D-4043-A997-5FD6E5E9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862-C8A9-4365-AE5F-7A55955C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A3F-AA39-4AD2-BC01-EDD2FC46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255-E9BF-42B8-8BE3-6E2E28E4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91A-0443-4AE4-9AF4-26F624C7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A9B-754B-433D-B8B9-CA2083F7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C88-3E23-4ED5-BEFB-05ECDABD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686-6F96-4B0F-9A13-751A7911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9CE-9018-4D72-9CA7-0C87C506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E97-24C6-4A81-851A-5FADD9AE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7D9-413E-481D-A30C-58C25141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D35-4A7E-4FD7-924F-2877C4B6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25C19-C45B-4377-BD34-21612D54DD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