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78877"/>
        <c:axId val="64559639"/>
      </c:barChart>
      <c:catAx>
        <c:axId val="89678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59639"/>
        <c:crosses val="autoZero"/>
        <c:auto val="1"/>
        <c:lblAlgn val="ctr"/>
        <c:lblOffset val="100"/>
        <c:noMultiLvlLbl val="0"/>
      </c:catAx>
      <c:valAx>
        <c:axId val="64559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8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120-4B73-4802-BA0A-208847E7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2B4-C9E6-4A32-A2AB-C34BFD1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254-C5AF-4CC4-B9FE-FA10B516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FB7-311A-4183-8940-13C983BC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4B7-B8B1-4449-A78E-4C19AE61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3B8-E112-4D5B-9AC8-48D1246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03F-109B-46B2-9447-AAA21D95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0B4-4EC4-4D1C-8B0C-30A5EB7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4D3-6458-475D-90A7-B18450A8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F33-FB40-4AD3-9EE3-E329A15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532-6A23-4AF9-919F-C509975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698-9C9E-4AA7-9319-3FE833A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272F-0C85-4131-AAAB-DA4BC19D42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