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834179"/>
        <c:axId val="90644056"/>
      </c:barChart>
      <c:catAx>
        <c:axId val="138341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644056"/>
        <c:crosses val="autoZero"/>
        <c:auto val="1"/>
        <c:lblAlgn val="ctr"/>
        <c:lblOffset val="100"/>
        <c:noMultiLvlLbl val="0"/>
      </c:catAx>
      <c:valAx>
        <c:axId val="906440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8341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F573-4A3B-4B58-8EC8-7193F9650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A3AF-E9C5-4BF5-AE4F-7A09ACE6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367D-BD2B-4A9C-8995-5FA30A4B8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EF88-AB26-4D02-BBC9-EAF71438C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FF97-2D99-47AF-9588-A654D7ED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FDDE-9EB4-49A6-A319-69FE57FE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88AB-8B1F-4E23-B222-11F8AB29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FA80-CC6B-4534-BF20-8955A926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FCB8-93A0-4164-8057-61D249FA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0C58-5C26-4D56-B9DB-C106F043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F181-8059-47DB-946B-1A0908A8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DC5D-D26E-4094-9344-76290F72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54D469-2B93-4F01-8A41-873B32D43C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