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36393"/>
        <c:axId val="65264133"/>
      </c:barChart>
      <c:catAx>
        <c:axId val="416363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4133"/>
        <c:crosses val="autoZero"/>
        <c:auto val="1"/>
        <c:lblAlgn val="ctr"/>
        <c:lblOffset val="100"/>
        <c:noMultiLvlLbl val="0"/>
      </c:catAx>
      <c:valAx>
        <c:axId val="65264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363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9DCA-F85C-4AAE-8A4C-E375B723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A8C-318F-4489-A5DB-BCB7634B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3B21-587A-46FD-9B57-C7FA001F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934-1287-4E76-808C-B671CEB5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512-2061-4F0A-A84F-C056D41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66C-17A0-4A16-9DFC-575539B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619-F6A5-40B6-8E93-BF0BEDB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291D-F6CB-44F7-899B-E6FC3D83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C8C-0E18-47A0-A6FC-61E9CB5A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316-4B0A-4D48-A589-A9A067CE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2A1C-EA66-4192-859D-5E1F477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FD6-2BCA-4EFE-916C-1B543C1E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9B4AC-8EFC-4E7B-94B1-CB87E5A5F7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